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50A4-7A59-429C-9634-5B30A83CA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25F1-1447-40F4-A75F-53A68A904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4073-AA8C-4D81-8855-E17BBEE25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02BE-CCC6-4EEA-A41D-6553C4298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CC233-52D8-464F-96CF-0117057E7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D0DA1-100C-4DC2-9E1F-F6AEB9662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2F90B-8CCC-48A0-BC72-940304F9D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136EF-77F5-4A1A-8D7F-9DA1E05A9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BD9F3-FF35-4FDF-8167-CBE3BE273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C2F90-D565-46D7-A4A7-B14D72EA5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7DDAF-2A91-44CB-8F33-22853A5D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FE98-86F0-4E24-A3A4-20D6B4057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D0D78-BB1B-4E9C-9985-D291F7D6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3235D-C9D3-47DC-98E7-B4DA84AC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0ABAB-F8FF-4B3D-A015-CB4EA4317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5A793-40A6-4A6B-975C-FADD2BD49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8182A-7B8D-4FA3-88A3-00AE4DF42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1F16-4F38-4825-8573-F3D016184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DE36-D4FE-444E-BE89-1C9142FF7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6C83-5A21-4C7F-A011-32F5B9032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D0AD-C9C6-4DB9-A28C-05E4923CB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6D4E-F9C8-43B9-8DAD-A2B66C60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62D9-32DA-4B5A-A62B-2A57267E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8B57-3FAF-4250-982D-35416AEC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42859-2842-4957-93DC-0CA61EECFE5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49879-FF13-49FB-BAE3-393E3D37C4D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hn/imgres?imgurl=http://upload.wikimedia.org/wikipedia/commons/2/28/Wikijunior_Ancient_Civilizations_Composite.png&amp;imgrefurl=http://commons.wikimedia.org/wiki/Image:Wikijunior_Ancient_Civilizations_Composite.png&amp;h=534&amp;w=534&amp;sz=620&amp;hl=es&amp;start=8&amp;usg=__l_Y7ZEXCPclmhmHzXqj8myy8N_o=&amp;tbnid=cf_c4HrWBqrQYM:&amp;tbnh=132&amp;tbnw=132&amp;prev=/images%3Fq%3Dancient%2Bcivilizations%26gbv%3D2%26hl%3Des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hn/imgres?imgurl=http://www.inkycircus.com/jargon/images/trilobyte.jpg&amp;imgrefurl=http://www.inkycircus.com/jargon/2006/04/fossils_fossils.html&amp;h=297&amp;w=480&amp;sz=65&amp;hl=es&amp;start=5&amp;usg=__eBOBfyEnXO93tplW2r1RvYDo4VU=&amp;tbnid=W4O-TckyEx8-4M:&amp;tbnh=80&amp;tbnw=129&amp;prev=/images%3Fq%3Dfossils%26gbv%3D2%26hl%3Des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google.hn/imgres?imgurl=http://www.brandeis.edu/departments/classics/Photos%2520of%2520Artifacts/Artifacts-.jpg&amp;imgrefurl=http://www.brandeis.edu/departments/classics/CLARC.html&amp;h=350&amp;w=352&amp;sz=52&amp;hl=es&amp;start=1&amp;usg=__NR53d1gdaXPcsJ0bTDVLgnyLOGM=&amp;tbnid=c4vnV9rrGytUHM:&amp;tbnh=119&amp;tbnw=120&amp;prev=/images%3Fq%3Dartifacts%26gbv%3D2%26hl%3Des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images.google.hn/imgres?imgurl=http://www.cm-mafra.pt/cultura/img/arqueologia.jpg&amp;imgrefurl=http://sindicatount.blogspot.com/2008/04/unt-apoya-la-firma-de-un-convenio.html&amp;h=225&amp;w=300&amp;sz=38&amp;hl=es&amp;start=5&amp;usg=__wyMqC2hZD1IjN_V6gKEN2AwWErM=&amp;tbnid=XvPGl3KOwdQqPM:&amp;tbnh=87&amp;tbnw=116&amp;prev=/images%3Fq%3Darqueologia%26gbv%3D2%26hl%3Des" TargetMode="External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hn/imgres?imgurl=http://www.h4ppy.com/blog/uploaded_images/Jebel%2520Acacus%2520Cave%2520paintings%25203-756757.JPG&amp;imgrefurl=http://www.h4ppy.com/blog/archives/2006_04_01_h4ppy.html&amp;h=427&amp;w=640&amp;sz=60&amp;hl=es&amp;start=1&amp;usg=__cFzf0lZz7TyuQeGTx5Z0eznb16M=&amp;tbnid=S5cAjSQSqcPHyM:&amp;tbnh=91&amp;tbnw=137&amp;prev=/images%3Fq%3Dcave%2Bpaintings%26gbv%3D2%26hl%3Des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google.hn/imgres?imgurl=http://www.mimenta.com/Images/Extra%2520Graphics/VA07/CavePaintingLascaux.jpg&amp;imgrefurl=http://www.mimenta.com/VisualArts/Visual%2520Art07.html&amp;h=457&amp;w=670&amp;sz=116&amp;hl=es&amp;start=4&amp;usg=__RXt_6yIo45cwrWYq8XEtgdJ1x5M=&amp;tbnid=YDqFrtUwPk8P6M:&amp;tbnh=94&amp;tbnw=138&amp;prev=/images%3Fq%3Dcave%2Bpaintings%26gbv%3D2%26hl%3Des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rupestre.it/tracce/imma2002/bhim1.jpg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63280" y="404280"/>
            <a:ext cx="6629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EARLY HUMANS AND SOCIETIES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COVERING THE P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242100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hort Answers…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udy of people and the places where they live is called__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a photograph be considered a primary source? Why or why no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of the following is a primary source exce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photograp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di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trea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 encycloped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914400" y="188640"/>
            <a:ext cx="777240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bject with ancient writing that is shown is 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ary source and a re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ary source and an artif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ary source and a re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ary source and an artif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24000" y="3860640"/>
            <a:ext cx="4249800" cy="28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-316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Infer…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549360"/>
            <a:ext cx="77724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it used f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es the artifact tell archaeologists and historians about the society or culture that created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258920" y="3068640"/>
            <a:ext cx="6337440" cy="36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-316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Infer…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549360"/>
            <a:ext cx="77724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it used f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es the artifact tell archaeologists and historians about the society or culture that created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916360" y="2884320"/>
            <a:ext cx="3960720" cy="32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-316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Infer…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549360"/>
            <a:ext cx="77724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it used f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es the artifact tell archaeologists and historians about the society or culture that created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484360" y="2954160"/>
            <a:ext cx="395928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TUDYING HISTOR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ISTORY is ___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ISTORIANS are people who study 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istorians study the past to understand people`s cul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LTURE is 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hose who forget their past are doomed to repeat i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050560" y="27756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RQUEOLOG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RQUEOLOGY is ___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RQUEOLOGISTS are 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x. Jewelery, dishes, weap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LUE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OSSILS are _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RTIFACTS are _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3320" y="3532320"/>
            <a:ext cx="1876320" cy="11635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12000" y="5226120"/>
            <a:ext cx="1646280" cy="16318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042920" y="0"/>
            <a:ext cx="17287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25280"/>
            <a:ext cx="4248000" cy="32324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80000" y="3573360"/>
            <a:ext cx="439236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0"/>
            <a:ext cx="3870360" cy="39164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211640" y="549360"/>
            <a:ext cx="4675320" cy="3311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2771640" y="4149720"/>
            <a:ext cx="2737080" cy="23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CTIVITES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AVE PAINTINGS (2 GROUPS OF 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Grab your finger painting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reate your own cave painting, each student should draw at least 1 dra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Keep in mind the following while you are drawing your pai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What is the subject of the art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What is the artist trying to say through this paint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CTIVITES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2. ARTIF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With Play dough create an artifact. You can decorate your artifact with some finger pai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ach student should create an artif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Keep in mind the following while you are crating your artif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What is it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Who made it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What is the artifact used for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From what time period is this artifact fro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CTIVITES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3. FOSS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ollow the instructions of the teacher to create your own foss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hoose a seashell, rock, stick or any object you cho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Keep in mind the following while you are crating your artif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What is the fossil of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How long was it found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ources of information…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 sources are of two typ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imary source is an account of an 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s: Treaties, letters, diaries, audio or vid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econdary source is information gathered by someone who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s: history textbooks, journal articles, encyclopedi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5T05:02:16Z</dcterms:created>
  <dc:creator>original</dc:creator>
  <dc:description/>
  <dc:language>en-US</dc:language>
  <cp:lastModifiedBy>Teacher</cp:lastModifiedBy>
  <dcterms:modified xsi:type="dcterms:W3CDTF">2003-05-15T23:31:14Z</dcterms:modified>
  <cp:revision>9</cp:revision>
  <dc:subject/>
  <dc:title>EARLY HUMANS AND SOCIETIES</dc:title>
</cp:coreProperties>
</file>